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420-28B6-4526-BB3E-63CADAB6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354-1C17-4E44-920F-18033E5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314-BB5B-47B6-A433-16955B5C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199-ABC3-4FC3-B6D9-4EDE254D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5DF9-E84A-4272-B604-F4829C7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17035-8AD7-4E83-A7F5-4ED7F86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9755F-6BE1-4622-9B6C-53671F7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EC4D-74F5-4175-B84B-FEF1B38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9D6E4-71B7-4543-B65B-F222542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3E144-935A-4CC5-BA68-637C5AD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7BDE8-1318-47FC-B329-6340F12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391-CCB1-409D-BD46-DD09167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D926F-69BD-4735-860D-88B60FC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B3C26-C0B3-4B34-84B6-DC76C47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1B1B-21BB-45F7-AFB2-A639212E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27594-941C-4548-8094-0CBCD629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FED08-C8D3-4E5C-AAF9-2440A502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A26-A3F5-493F-BF41-DCA3368E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5D1-A7D4-4887-8893-9CD85D51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BF5-E24D-44F2-86F9-1241651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B92-CEFC-4B91-9E65-5CCF58F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0C4-65D1-4BC3-A7DD-99A7110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FD3-24F9-4B39-88FD-4FFE139D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DD1-207D-414D-91FD-58AB457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01E-5393-426E-82C1-05020C424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285-8A45-4E40-98AE-5C502FA80A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9960" y="189000"/>
            <a:ext cx="592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s fronteri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otro asalto a Baeza”  (agosto 14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cos, los mis moric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que ganáis mi sold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rribédesme a Baez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a villa torre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viejosm y a los 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traed en cabalg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mozos y va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meted  todos a esp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ese viejo pero Dí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ndédmelo por la bar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quesa linda Leo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la mi enam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 vos, capitán Vanegas, porque venga más honr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i vos sois mandade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cierta la jornad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34:04Z</dcterms:created>
  <dc:creator> </dc:creator>
  <dc:description/>
  <dc:language>en-US</dc:language>
  <cp:lastModifiedBy> </cp:lastModifiedBy>
  <dcterms:modified xsi:type="dcterms:W3CDTF">2007-09-28T02:57:27Z</dcterms:modified>
  <cp:revision>6</cp:revision>
  <dc:subject/>
  <dc:title>Diapositiva 1</dc:title>
</cp:coreProperties>
</file>